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EB4A-E16E-4465-80AF-67C286567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520" y="3918600"/>
            <a:ext cx="8458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81B5-653A-4F40-BE39-F5BAF0179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14560" y="137124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380520" y="391860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14560" y="391860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776B-3F1B-4EF4-92F1-301B85912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40360" y="137124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100560" y="137124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80520" y="391860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40360" y="391860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100560" y="391860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7373-8877-430F-B0BD-C9D40A2E4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79DAB-BE55-4D75-B91F-E2FEC93AE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380520" y="13712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5305E-2BE0-4A82-A19A-32724ABD8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1CE1C-99D2-43FE-91C1-3B57A5357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127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1371240"/>
            <a:ext cx="4127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AC0B4-4788-43B4-9019-0BC5F0767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ABFD7-3A86-4D34-9A4E-46F5BBF5E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066680" y="152280"/>
            <a:ext cx="77932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40069-73D5-45B8-AD89-65119623D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4560" y="1371240"/>
            <a:ext cx="4127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80520" y="391860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DED91-2F24-4332-8032-19BCAEE2B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380520" y="13712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2CE1-5AC5-4612-94F9-5C8C410AC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127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14560" y="137124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714560" y="391860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B3B40-7C2A-4104-A730-BEC06638E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14560" y="137124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0520" y="3918600"/>
            <a:ext cx="8458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410C5-AAA5-4B28-BFB8-4CBFF0A5D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0520" y="3918600"/>
            <a:ext cx="8458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4D58D-46E3-4AC2-B80E-452045C1F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14560" y="137124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80520" y="391860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714560" y="391860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5FDE0-76C1-42BC-9064-E996D55E9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40360" y="137124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100560" y="137124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0520" y="391860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40360" y="391860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100560" y="391860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F37EA-8005-4A49-A9ED-C52EFA17E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BC53-AB1F-457B-A195-E2310A696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127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14560" y="1371240"/>
            <a:ext cx="4127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1885-463C-497D-8D6C-903275F4A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EA50-5D5C-4DBE-B89D-71E51120D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152280"/>
            <a:ext cx="77932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2A31-AB57-4399-819B-1B2707730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1371240"/>
            <a:ext cx="4127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520" y="391860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EF64-DCB3-4060-91D2-49AE435F7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127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137124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14560" y="391860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1238-2EC1-4B1F-BAA5-240F48938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14560" y="137124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3918600"/>
            <a:ext cx="8458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67A4-30D3-48B8-B145-EA4D6115B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228600"/>
            <a:ext cx="438120" cy="4748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533520" y="228600"/>
            <a:ext cx="328320" cy="474840"/>
          </a:xfrm>
          <a:prstGeom prst="rect">
            <a:avLst/>
          </a:prstGeom>
          <a:gradFill rotWithShape="0">
            <a:gsLst>
              <a:gs pos="0">
                <a:srgbClr val="fef1c0">
                  <a:alpha val="13333"/>
                </a:srgbClr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38088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38088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28600" y="609480"/>
            <a:ext cx="56052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22860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460440" y="1066320"/>
            <a:ext cx="8683560" cy="46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380520" y="13712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c169e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E4017-C8E3-46B2-BEC7-0EE57BE905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" name="" descr=""/>
          <p:cNvPicPr/>
          <p:nvPr/>
        </p:nvPicPr>
        <p:blipFill>
          <a:blip r:embed="rId2"/>
          <a:stretch/>
        </p:blipFill>
        <p:spPr>
          <a:xfrm>
            <a:off x="8153280" y="6053040"/>
            <a:ext cx="990720" cy="804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290520" y="2546280"/>
            <a:ext cx="711360" cy="474840"/>
            <a:chOff x="290520" y="2546280"/>
            <a:chExt cx="711360" cy="474840"/>
          </a:xfrm>
        </p:grpSpPr>
        <p:sp>
          <p:nvSpPr>
            <p:cNvPr id="50" name=""/>
            <p:cNvSpPr/>
            <p:nvPr/>
          </p:nvSpPr>
          <p:spPr>
            <a:xfrm>
              <a:off x="290520" y="2546280"/>
              <a:ext cx="437400" cy="4748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73560" y="2546280"/>
              <a:ext cx="328320" cy="474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414360" y="2968560"/>
            <a:ext cx="737640" cy="474840"/>
            <a:chOff x="414360" y="2968560"/>
            <a:chExt cx="737640" cy="474840"/>
          </a:xfrm>
        </p:grpSpPr>
        <p:sp>
          <p:nvSpPr>
            <p:cNvPr id="53" name=""/>
            <p:cNvSpPr/>
            <p:nvPr/>
          </p:nvSpPr>
          <p:spPr>
            <a:xfrm>
              <a:off x="414360" y="2968560"/>
              <a:ext cx="421560" cy="474840"/>
            </a:xfrm>
            <a:prstGeom prst="rect">
              <a:avLst/>
            </a:prstGeom>
            <a:solidFill>
              <a:srgbClr val="1c16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83000" y="2968560"/>
              <a:ext cx="369000" cy="474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69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0" y="2895480"/>
            <a:ext cx="56052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35040" y="243828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1410F-1019-46F4-8CC7-EBFC65147DFC}" type="slidenum">
              <a:rPr b="0" lang="en-US" sz="1400" spc="-1" strike="noStrike">
                <a:solidFill>
                  <a:srgbClr val="1c1c1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16080" y="3265200"/>
            <a:ext cx="8683560" cy="46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1c169e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enome Data Directori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295280" y="38858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n Gilbert, gilbertd@indiana.e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791320" y="5181480"/>
            <a:ext cx="2022480" cy="14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ata Access Need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able genome data 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 Page scraping and bulk files not enou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 Internet search &amp; retrieval of all genome objects distributed among many 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 Simple, flexible client program model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 Efficient for high volume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bjects; &gt;1 GB siz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irectories of Genome Data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rectories are a necessary step for bio gr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broad and shallow"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irectories federate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narrow and deep"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atab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io-Data Access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RS, Sequence Retrieval System;  Entrez ;  AceDB; Genome relational databases (Ensembl, FlyBase, WormBase) ; IBM DiscoveryLink; BioDAS ; BioMo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rectory services for data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yer onto access tools for common query/retrie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DAP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ature, efficient for high volumes, query distributed directories ; works well with bio-access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b Services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 messages over Web ; wide industry support , standards are in prog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irectory componen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28600" y="1289160"/>
            <a:ext cx="8534520" cy="54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enome Directory Need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</a:t>
            </a:r>
            <a:r>
              <a:rPr b="0" lang="en-US" sz="2400" spc="-1" strike="noStrike">
                <a:solidFill>
                  <a:srgbClr val="06047f"/>
                </a:solidFill>
                <a:latin typeface="Arial"/>
              </a:rPr>
              <a:t>existing technolog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finding distributed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047f"/>
                </a:solidFill>
                <a:latin typeface="Arial"/>
              </a:rPr>
              <a:t>Efficient for mill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objects, by the gigabyte and teraby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047f"/>
                </a:solidFill>
                <a:latin typeface="Arial"/>
              </a:rPr>
              <a:t>Quer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istributed </a:t>
            </a:r>
            <a:r>
              <a:rPr b="0" lang="en-US" sz="2400" spc="-1" strike="noStrike">
                <a:solidFill>
                  <a:srgbClr val="06047f"/>
                </a:solidFill>
                <a:latin typeface="Arial"/>
              </a:rPr>
              <a:t>across director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collaborating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047f"/>
                </a:solidFill>
                <a:latin typeface="Arial"/>
              </a:rPr>
              <a:t>Suppo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xisting and new </a:t>
            </a:r>
            <a:r>
              <a:rPr b="0" lang="en-US" sz="2400" spc="-1" strike="noStrike">
                <a:solidFill>
                  <a:srgbClr val="06047f"/>
                </a:solidFill>
                <a:latin typeface="Arial"/>
              </a:rPr>
              <a:t>bioinformatics data acce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relational dbs, object and XML dbs, SRS, Entrez, AceD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047f"/>
                </a:solidFill>
                <a:latin typeface="Arial"/>
              </a:rPr>
              <a:t>Simple cli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gram </a:t>
            </a:r>
            <a:r>
              <a:rPr b="0" lang="en-US" sz="2400" spc="-1" strike="noStrike">
                <a:solidFill>
                  <a:srgbClr val="06047f"/>
                </a:solidFill>
                <a:latin typeface="Arial"/>
              </a:rPr>
              <a:t>metho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computable use of direc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exible, </a:t>
            </a:r>
            <a:r>
              <a:rPr b="0" lang="en-US" sz="2400" spc="-1" strike="noStrike">
                <a:solidFill>
                  <a:srgbClr val="06047f"/>
                </a:solidFill>
                <a:latin typeface="Arial"/>
              </a:rPr>
              <a:t>common schem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describing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047f"/>
                </a:solidFill>
                <a:latin typeface="Arial"/>
              </a:rPr>
              <a:t>Replicate director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objects among bioinformatics cen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047f"/>
                </a:solidFill>
                <a:latin typeface="Arial"/>
              </a:rPr>
              <a:t>Peer-to-peer director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collaborative 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ong </a:t>
            </a:r>
            <a:r>
              <a:rPr b="0" lang="en-US" sz="2400" spc="-1" strike="noStrike">
                <a:solidFill>
                  <a:srgbClr val="06047f"/>
                </a:solidFill>
                <a:latin typeface="Arial"/>
              </a:rPr>
              <a:t>authentication and secur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data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irectory Standard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Grid Services Architechture (OGS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AP based; query support for XML-SQL and Xquery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Access project: http://www.ogsa-dai.org.u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ghtweight Directory Access (LDA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bust system for distributed search and retrie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-centric, optimized for efficient read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erarchical, distributed and replicated in n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fe Sciences ID (LSID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standard for bio-object naming, with LDAP and WebServices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by project web services repository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irectory Tes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 and test distributed access with LDAP and Web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RS backend for efficient search/retrieval from GenBank, SwissProt/TrEMBL, LocusLink, Medline, many 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&amp; fetch 20,000 to 1.2 million ob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DAP is ~10x faster than Web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in progress for Fly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irectory Tes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8183" t="11766" r="8183" b="11766"/>
          <a:stretch/>
        </p:blipFill>
        <p:spPr>
          <a:xfrm>
            <a:off x="304920" y="1152360"/>
            <a:ext cx="8076960" cy="570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enome Directory Issu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82680" y="5105520"/>
            <a:ext cx="735264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irectory tests 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http://iubio.bio.indiana.edu/biogrid/directories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4T17:28:33Z</dcterms:created>
  <dc:creator>don gilbert</dc:creator>
  <dc:description/>
  <dc:language>en-US</dc:language>
  <cp:lastModifiedBy>don gilbert</cp:lastModifiedBy>
  <dcterms:modified xsi:type="dcterms:W3CDTF">2003-05-04T18:56:14Z</dcterms:modified>
  <cp:revision>6</cp:revision>
  <dc:subject/>
  <dc:title>Genome Data Directories</dc:title>
</cp:coreProperties>
</file>